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74D-6D3F-488C-B4F9-B3D36CA8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123-744F-43B4-A778-CE17CB55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EA8-24D2-4004-8CA4-910B96D4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016-42DF-4C83-8DAE-83DC61ED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41C-099E-4877-A7A0-C116B375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4B31-19BA-4048-9D67-0B8CCAA4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32D5-85B1-46C6-A987-F165BAD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67D1-D831-440F-8826-875DCC3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F5A6-E9F1-4B0E-B8B0-3F5D656C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0D85-87CD-4607-ADB7-F30D55B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B3F-BCE7-4FB2-9209-73E102A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791-3A2B-4A8F-B05D-CDF1C952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D5B2-4887-40C0-8674-C2F2841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F572-7333-4E5B-9150-DD6835EB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EB9-A89F-4700-9571-DEF10B21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A04C-C637-4DAA-A1D7-97DDC750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5BBA-FFE7-429D-BE9B-4C9F7DB4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581-A0D9-4D12-B2EA-9ACED405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651-577E-4681-8EDF-5FB3F6AD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F70-D6A4-4CBC-914D-F196AD43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005-A70C-4A20-98B5-7AE41D42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ABC-E4FC-4C33-9E4B-167906B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150-CEA0-4E4E-9E8D-90A3A6A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E1C-E27C-40CD-BF1A-EE063004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756-1436-47A2-99A5-DDABD9B6C2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E060-F864-4808-A0E2-EF92F9CA93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 Formation/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hobbesanm"/>
          <p:cNvPicPr/>
          <p:nvPr/>
        </p:nvPicPr>
        <p:blipFill>
          <a:blip r:embed="rId1"/>
          <a:stretch/>
        </p:blipFill>
        <p:spPr>
          <a:xfrm>
            <a:off x="3048120" y="228600"/>
            <a:ext cx="26668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 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sif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process of forming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ones forms on hyaline cartilage “models” (flat bones: fibrous membra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 covers the entire cartilag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bone is removed to form ca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0" y="1600200"/>
            <a:ext cx="8896320" cy="4267080"/>
            <a:chOff x="0" y="1600200"/>
            <a:chExt cx="8896320" cy="4267080"/>
          </a:xfrm>
        </p:grpSpPr>
        <p:pic>
          <p:nvPicPr>
            <p:cNvPr id="169" name="Picture 8" descr="ossification2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5105520" cy="42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" descr="ossification3"/>
            <p:cNvPicPr/>
            <p:nvPr/>
          </p:nvPicPr>
          <p:blipFill>
            <a:blip r:embed="rId6"/>
            <a:stretch/>
          </p:blipFill>
          <p:spPr>
            <a:xfrm>
              <a:off x="5105520" y="1600200"/>
              <a:ext cx="3790800" cy="426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 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cartilage left behind is the articular cartilage and the epiphyseal 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s grow lengthwise (longitudinally) by cartilage being formed at the epiphyseal plate outw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, the epipyseal plates ossify and growth sto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epiphyseal_plate"/>
          <p:cNvPicPr/>
          <p:nvPr/>
        </p:nvPicPr>
        <p:blipFill>
          <a:blip r:embed="rId5"/>
          <a:stretch/>
        </p:blipFill>
        <p:spPr>
          <a:xfrm>
            <a:off x="5334120" y="1600200"/>
            <a:ext cx="334800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Line 9"/>
          <p:cNvSpPr/>
          <p:nvPr/>
        </p:nvSpPr>
        <p:spPr>
          <a:xfrm flipH="1" flipV="1">
            <a:off x="6552720" y="2971440"/>
            <a:ext cx="83844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ight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bone breaks inside the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one breaks the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nut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one breaks into fra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bone is cru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ress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roken bone is pressed i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348Tibfib_fracture_MVA_21_yo"/>
          <p:cNvPicPr/>
          <p:nvPr/>
        </p:nvPicPr>
        <p:blipFill>
          <a:blip r:embed="rId3"/>
          <a:stretch/>
        </p:blipFill>
        <p:spPr>
          <a:xfrm>
            <a:off x="4724280" y="1447920"/>
            <a:ext cx="2414880" cy="36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Compound_fracture_dislocation_left_ankle"/>
          <p:cNvPicPr/>
          <p:nvPr/>
        </p:nvPicPr>
        <p:blipFill>
          <a:blip r:embed="rId4"/>
          <a:stretch/>
        </p:blipFill>
        <p:spPr>
          <a:xfrm>
            <a:off x="4572000" y="1447920"/>
            <a:ext cx="4343400" cy="3259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900418"/>
          <p:cNvPicPr/>
          <p:nvPr/>
        </p:nvPicPr>
        <p:blipFill>
          <a:blip r:embed="rId5"/>
          <a:stretch/>
        </p:blipFill>
        <p:spPr>
          <a:xfrm>
            <a:off x="5029200" y="1447920"/>
            <a:ext cx="3763800" cy="5105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10_46"/>
          <p:cNvPicPr/>
          <p:nvPr/>
        </p:nvPicPr>
        <p:blipFill>
          <a:blip r:embed="rId6"/>
          <a:stretch/>
        </p:blipFill>
        <p:spPr>
          <a:xfrm>
            <a:off x="5029200" y="1447920"/>
            <a:ext cx="280656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19084"/>
          <p:cNvPicPr/>
          <p:nvPr/>
        </p:nvPicPr>
        <p:blipFill>
          <a:blip r:embed="rId7"/>
          <a:stretch/>
        </p:blipFill>
        <p:spPr>
          <a:xfrm>
            <a:off x="4952880" y="14479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ne ends are broken when forced into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i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bone breaks due to twisting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enstic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ne breaks incompletely; common in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6" descr="art-sm"/>
          <p:cNvPicPr/>
          <p:nvPr/>
        </p:nvPicPr>
        <p:blipFill>
          <a:blip r:embed="rId2"/>
          <a:stretch/>
        </p:blipFill>
        <p:spPr>
          <a:xfrm>
            <a:off x="5029200" y="1523880"/>
            <a:ext cx="3600360" cy="492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1085629429_50b2fa36aa"/>
          <p:cNvPicPr/>
          <p:nvPr/>
        </p:nvPicPr>
        <p:blipFill>
          <a:blip r:embed="rId3"/>
          <a:stretch/>
        </p:blipFill>
        <p:spPr>
          <a:xfrm>
            <a:off x="4952880" y="15238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art-ar446548"/>
          <p:cNvPicPr/>
          <p:nvPr/>
        </p:nvPicPr>
        <p:blipFill>
          <a:blip r:embed="rId4"/>
          <a:stretch/>
        </p:blipFill>
        <p:spPr>
          <a:xfrm>
            <a:off x="4267080" y="1676520"/>
            <a:ext cx="48769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ed redu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octor positions the bone back into position without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Redu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rgery is required to pin the bone into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volk1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275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hiporif"/>
          <p:cNvPicPr/>
          <p:nvPr/>
        </p:nvPicPr>
        <p:blipFill>
          <a:blip r:embed="rId5"/>
          <a:stretch/>
        </p:blipFill>
        <p:spPr>
          <a:xfrm>
            <a:off x="4648320" y="1676520"/>
            <a:ext cx="3911400" cy="472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lisf2a"/>
          <p:cNvPicPr/>
          <p:nvPr/>
        </p:nvPicPr>
        <p:blipFill>
          <a:blip r:embed="rId6"/>
          <a:stretch/>
        </p:blipFill>
        <p:spPr>
          <a:xfrm>
            <a:off x="4648320" y="1752480"/>
            <a:ext cx="41907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 Rep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matoma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ise due to broken blood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rocartilage Call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a thick layer of cartilage, blood vessels, and collagen fibers surrounds the fr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ny Callu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steoblast lay down new spongy bone –eventually becomes compact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del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Osteoclasts reform the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hematoma"/>
          <p:cNvPicPr/>
          <p:nvPr/>
        </p:nvPicPr>
        <p:blipFill>
          <a:blip r:embed="rId3"/>
          <a:stretch/>
        </p:blipFill>
        <p:spPr>
          <a:xfrm>
            <a:off x="5181480" y="1600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Go to fullsize image"/>
          <p:cNvPicPr/>
          <p:nvPr/>
        </p:nvPicPr>
        <p:blipFill>
          <a:blip r:embed="rId4"/>
          <a:stretch/>
        </p:blipFill>
        <p:spPr>
          <a:xfrm>
            <a:off x="5181480" y="1600200"/>
            <a:ext cx="3892680" cy="4114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AP1_b13"/>
          <p:cNvPicPr/>
          <p:nvPr/>
        </p:nvPicPr>
        <p:blipFill>
          <a:blip r:embed="rId5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57:26Z</dcterms:created>
  <dc:creator>Jeff Burghardt</dc:creator>
  <dc:description/>
  <dc:language>en-US</dc:language>
  <cp:lastModifiedBy>Administrator</cp:lastModifiedBy>
  <dcterms:modified xsi:type="dcterms:W3CDTF">2010-07-19T12:53:11Z</dcterms:modified>
  <cp:revision>5</cp:revision>
  <dc:subject/>
  <dc:title>Skeletal System</dc:title>
</cp:coreProperties>
</file>